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502-BE96-4173-8B0D-6F7CEF50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380-2BD6-42CF-8AD0-CEE01234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0C0-57C5-4C78-BF75-CFC0AC72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AFD-EC45-4105-A5AC-A57D3144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00D9-24DE-43D9-9A1D-24F6B79F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B7D7-A697-43AF-82E8-D6A7F41A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F189-41A4-4432-9E82-BCD72B41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0F04-DC14-4E71-BD28-62B39B7E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006B-FB6F-43D0-BF0C-23033D06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A48C-4D3A-408E-9F34-3C9CA2B6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A097-5888-4452-9F04-CB35AA36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94C9-E697-4ACE-979E-17418E4C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D157-38D4-4874-AA78-702A181F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8605-D6FC-4052-B7C4-FDE762A6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9C0D-899C-471E-997A-334E60D3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F683-4830-41AB-AA53-F14BA26B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11CF-D0A5-47CB-840C-D673ED2C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D84-33F6-486F-AC8B-13A544AC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C2B-3768-4B28-80BA-18BF48A1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3B4-F68B-4EAC-85C1-63953FEF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C66-209A-4B5D-A3E6-E9692D45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A48-2DAF-45F5-89A0-E95BD3A3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442-C8A6-4551-AD68-2F2E02DA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1F7-CA91-44E8-A329-1BC0AADA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F526-5637-43F0-B1B2-B32B6B9DC3C5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046D-91F6-41DA-AAA0-50EBE97A1DB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ederal District Cour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ederal District courts have original jurisdiction (first) in most federal cas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ch state has at least one Federal District court. (some mor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90 percent of all federal court work (300,000 cases per year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peals Court Judg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udges do not decide guilt or innocence.  They rule on whether a person’s rights have been protected or whether there was a fair tri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Judges may overturn the lower courts ruling, uphold it, or send the case back for a new tri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pecial Federal Cour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.S. Tax Court-hears tax law appe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.S. Court of Federal Claims-when citizens sue the gov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.S. Court of Military Appeals-for military people to appeal a court-martia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.S. Court of International Trade-trade disputes from tariff/trade law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S District Cour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-Knoxville, T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828800" y="2552760"/>
            <a:ext cx="49356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strict Court Judg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ch court has at least 2 judg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ederal Court judges decide procedures in the court, explain the law in a case, punishment or fine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ppointed by President, approved by the Sen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ther District Court Offic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ral Officials help District Court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gistrate-issues court orders, hears preliminary evidence to see if a case should be brought to tri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ther District Court Offic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.S. Attorney-the government’s lawyer, proves if a suspect commits a crime, has dozens of assistant U.S. attorneys who perform most of the trial wor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.S. Marshal-makes arrests, serves subpoen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.S. Courts of Appea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urts of Appeals have only appellate jurisdiction (appeals only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losing side in a case may decide to appeal a ruling based on wrong procedure, misapplication of the law, new evidence…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.S. Courts of Appea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esent system established in 1891 to ease the burden of the Supreme Cour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oday 12 courts of appeals have  jurisdiction over a certain geographic area called a Circuit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ach court receives cases from the district courts in its own circui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OUR circuit….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09680" y="1749600"/>
            <a:ext cx="441972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peals Court Judg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ch court has from 6 to 27 judg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ppointed for lif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 Juries in appeals cour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ses are decided by a panel of at least 3 judg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5:44:38Z</dcterms:created>
  <dc:creator>shroberts</dc:creator>
  <dc:description/>
  <dc:language>en-US</dc:language>
  <cp:lastModifiedBy>SysAdmin</cp:lastModifiedBy>
  <dcterms:modified xsi:type="dcterms:W3CDTF">2011-10-04T16:23:35Z</dcterms:modified>
  <cp:revision>6</cp:revision>
  <dc:subject/>
  <dc:title>Federal District Courts</dc:title>
</cp:coreProperties>
</file>